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B2CB-0A77-4437-8FD4-A1041FF8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D9F-ECDE-4CDF-AB08-9CD7F738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E929-0ACB-4A48-A04B-6A576352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8E1-9A9D-4B1D-BED6-79017EF6A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47DA-000B-4FB5-8853-94658D352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2D6B-77A9-43AF-8E03-27190A26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ABD-AE2A-4772-8E0A-20AA04CE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AAE-3848-4130-99A1-F5121E07C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AE8-76D5-49BA-B482-5E0ACF19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2D79-742E-4EE9-8EE0-1C45DE87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8F2-256A-4B1D-AAAA-E2CFDC4B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E3BA-68A9-4812-835A-AD6C56B9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294-B34D-42D7-B480-ADA2AD0EA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E8C9-B760-41F6-99A6-C5FDCAF26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3FE-52A3-4C80-8299-C05F3E04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552-78CC-48BE-A08B-F5C41AB6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2047-B461-4B91-815B-57D131FC2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CAE4-B72C-44A6-8975-40D24C51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A9FE-1588-4297-B657-18924169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7E23-E3CB-4A09-9152-AF272DB3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2611-4347-4A8B-B208-9F67EB5A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969-0BDF-434F-85D3-5523A1BFF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8BC-8FB2-460E-B3EE-3561EF61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FFD-F2F3-4EC4-A577-B812E4C45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D74-CF7B-42E8-B31D-2D75A698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A64-AB55-4996-B32F-C71F1ED5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79F-71BB-4B58-8F6F-F90CEE60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AB59-2058-483C-8D40-4BC53C0D3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FC61-EE37-48B9-8EF7-AF968E3B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6F0-2EEB-4C53-A437-9CA4679F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A224-8F25-4C2F-A528-2C3BF830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97B7-113B-4C4C-B2CD-966D73C1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3A8D-ED31-4AD6-AE5B-809BAEEA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200B-A088-4F6C-AC87-164C5567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FB8F-6A85-4B5E-B681-89AFFB43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D419-5FF7-403A-8EB6-8424FB18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5FF-78C3-436D-A274-B0A9C1DF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2191-DABF-4DFE-B0BA-99C0FE74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999A-60C9-4588-83C1-B228A80E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8329-D3AD-40A1-B5A7-350F1EA3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066-86CE-42A2-A6CA-62428EBA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EBB5-6AFD-45F4-84C0-0C49C7C3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6F37-0C5D-4262-B220-06D4BA10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6030-9524-42AF-8AEA-C8D610B9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DFF-0D44-49BB-A663-B0D31772A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E23-B4B4-4D0F-A8D3-0CB59BFA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CC2-E78C-47E6-8F33-C660794C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2E65-9881-4A4C-98B3-330E102C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F30-60BE-40B1-9171-C0DE9BDF9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9EB8-36A9-43C4-A0EE-217D4147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D726-EEFA-4011-9416-78BBE97AC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4A9-CFBA-4521-97E2-C67D6195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702-3E98-469A-9659-24E5F133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4F7-6CC5-405D-9403-F72D71D42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A07-1D2D-4F5A-9656-E3A78ED1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B518-F816-4FC9-8CD3-1F103171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CCA2-A5F8-4226-A3D3-1943B003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502-DDAB-4DDB-8A2C-D92D1B72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1A4E-3B1D-4545-B955-4253540C8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D12-690E-4789-8A05-D24CB228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430-BCA4-46C4-8404-C0FB5EA7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DCA8-73DF-4890-BB33-F60154F2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49C-0398-40C4-8339-E4FD4D6C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6E9F-EA38-47A0-BDD6-5558D01F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A9A-3BBA-4AB2-850A-52403A683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D44-D6B6-47F8-80F5-F36E1069B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6C10-661D-45A4-8A63-A8A46CE18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C7C-FF90-46A2-8B28-3C75FB45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A4B-7EFC-4D54-952F-3038AB2DC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D2D-6A8F-451E-B757-F93896E0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6496-754A-4252-975F-695DDD62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EEB-21DC-446B-8597-C4A6D51FE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494-A906-4A00-86AF-DE5A00FB1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A82-6C2F-4AFC-A884-CBA03BE7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0BA5-2615-48CA-823B-ABE1430D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160B-A992-4AEF-B6A4-057CFE92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56A4-31FB-4315-A371-C4CBE9FEB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130-DA10-4F6E-B78B-E04C96A8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5C2-C37B-4351-87E3-2C7D598F3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FD7C-8687-4B32-B497-E53D5297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555-C079-47F2-9A46-45B5BFEC9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548B-6187-45BC-912A-F12C579F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07D5-2E8D-4BC9-BB83-3C948E516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E69-6D3E-405E-A82F-DC54F0C6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CBDB-F22E-4F45-9073-E9BC0316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BBD-76C3-4751-BC2D-316839F87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4C85-72C3-49F5-94EF-D7F1CA27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5FC-CB65-4EA7-992B-9387A1D0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1D1-C313-4742-BD42-CAF7CF7C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3E52-2173-41CD-881B-EA4D6A922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80DA-D836-4CAB-A59B-0CBF00C8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7A72-05DE-4B81-A257-8AF051C2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EB9-A7AC-4281-B09A-6E315253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51E-5C94-480C-BC0E-B15C0EBE3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2D81-5659-4BB8-9657-1162F9DA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B5C-0601-4BC3-8D5E-E5667524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6D1-0426-4222-912C-7AEE0E20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F878-2F92-46B5-AD3C-7532A23B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347-A069-44FD-B282-C180094A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C04-8148-441F-8D64-0EBA2327E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81A9-BBF4-4796-83F2-4CEA71C7C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318-579B-47E5-9202-326584B3B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22DF-07B2-4650-B02C-0DBAE804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F345-0745-456B-B7B4-322B3E06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896A-F5A2-4050-B566-1163FDAA2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600-198B-4249-BEB0-59A33D3CD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50C-1DE1-4E27-8873-370F8EA3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394D-33F8-4629-84CF-5C2ABE9A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F5A-9662-45D1-9DE5-27F38D75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94E3-D8A1-4CC5-84A6-4584E8C7B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667-C573-49FA-82B0-B72CA8F2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2F05-CA67-42BC-844A-9261FAC8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842-B772-4730-8B5A-1C645220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DF6-9C34-40C1-9448-646B03D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893-B4A5-4C77-9850-3B683067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06B-9B46-472A-86E2-E33820DA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4C9-D89E-4440-8D28-84565BA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0AA-DD1C-41CB-A625-BFEC2BD0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829-2F49-4D56-BFF1-9FE7E96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CC0-93B3-491E-A47F-EF81A593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AB8-1497-4FFC-A352-D13ED7D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C76-1108-41E6-A3BB-3A3F50C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949-4E91-4F27-99A9-8CBE1A2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AAD-57CB-4FDC-89DB-748B6A4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921-A286-4FEE-B8E9-4A2700231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Physic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x-linked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s from recessive ge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are carried on the sex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ulimia nervos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n eating disorder in which one goes on an eating binge and then vomits or uses laxatives as a way of purging the bod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icture 9"/>
          <p:cNvPicPr/>
          <p:nvPr/>
        </p:nvPicPr>
        <p:blipFill>
          <a:blip r:embed="rId1"/>
          <a:stretch/>
        </p:blipFill>
        <p:spPr>
          <a:xfrm>
            <a:off x="1362240" y="2362320"/>
            <a:ext cx="6419520" cy="213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t is commonly belie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drug problem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mong young peop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at an epidemic leve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United St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icture 10"/>
          <p:cNvPicPr/>
          <p:nvPr/>
        </p:nvPicPr>
        <p:blipFill>
          <a:blip r:embed="rId1"/>
          <a:stretch/>
        </p:blipFill>
        <p:spPr>
          <a:xfrm>
            <a:off x="1949400" y="2114640"/>
            <a:ext cx="524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Picture 12"/>
          <p:cNvPicPr/>
          <p:nvPr/>
        </p:nvPicPr>
        <p:blipFill>
          <a:blip r:embed="rId1"/>
          <a:stretch/>
        </p:blipFill>
        <p:spPr>
          <a:xfrm>
            <a:off x="1755720" y="2128680"/>
            <a:ext cx="56307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a consequ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opular cul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society’s relaxed attitudes about sexuality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researchers believ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young peop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dealing with sexual issue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t a younger age than ever befor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adults, adolescents are at a higher risk for acquiring sexually transmitted diseases (STDs), including HIV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ble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has recei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atten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dolescent pregnanc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Picture 1"/>
          <p:cNvPicPr/>
          <p:nvPr/>
        </p:nvPicPr>
        <p:blipFill>
          <a:blip r:embed="rId1"/>
          <a:stretch/>
        </p:blipFill>
        <p:spPr>
          <a:xfrm>
            <a:off x="1523880" y="1676520"/>
            <a:ext cx="6043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icture 13"/>
          <p:cNvPicPr/>
          <p:nvPr/>
        </p:nvPicPr>
        <p:blipFill>
          <a:blip r:embed="rId1"/>
          <a:stretch/>
        </p:blipFill>
        <p:spPr>
          <a:xfrm>
            <a:off x="1760400" y="1814400"/>
            <a:ext cx="56214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Monozygotic twi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come from the same fertilized egg and contain the same genetic instruction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Picture 14"/>
          <p:cNvPicPr/>
          <p:nvPr/>
        </p:nvPicPr>
        <p:blipFill>
          <a:blip r:embed="rId1"/>
          <a:stretch/>
        </p:blipFill>
        <p:spPr>
          <a:xfrm>
            <a:off x="1335240" y="1231920"/>
            <a:ext cx="6473520" cy="439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ool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ke other ecological contexts, support healthy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hildren and adolescen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prevent risky behavior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Dizygotic twi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develop from two different egg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wn Syndro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extra twenty-first chromosome or          a piece of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order occurs 1 out of 1,000 live bir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has been linked to the age of the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have a very characteristic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 1"/>
          <p:cNvPicPr/>
          <p:nvPr/>
        </p:nvPicPr>
        <p:blipFill>
          <a:blip r:embed="rId1"/>
          <a:stretch/>
        </p:blipFill>
        <p:spPr>
          <a:xfrm>
            <a:off x="1828800" y="1219320"/>
            <a:ext cx="5522760" cy="445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icture 3"/>
          <p:cNvPicPr/>
          <p:nvPr/>
        </p:nvPicPr>
        <p:blipFill>
          <a:blip r:embed="rId1"/>
          <a:stretch/>
        </p:blipFill>
        <p:spPr>
          <a:xfrm>
            <a:off x="2133720" y="2133720"/>
            <a:ext cx="5200560" cy="1904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agile-X Syndro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leading causes of mental retardation and developmental dis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by a singl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 in males than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etected through genetic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N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s a person inher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both parents for any particular tra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expression of inherited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cture 1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enatal development perio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tim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om conception to birth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icture 1"/>
          <p:cNvPicPr/>
          <p:nvPr/>
        </p:nvPicPr>
        <p:blipFill>
          <a:blip r:embed="rId1"/>
          <a:stretch/>
        </p:blipFill>
        <p:spPr>
          <a:xfrm>
            <a:off x="2438280" y="2057400"/>
            <a:ext cx="4822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period of human gestation is 38 wee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natal Development is divided into three major stages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8120" y="33523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ina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ryonic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ges of Prenatal Develop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" name="Picture 4" descr="Picture 1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45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atoge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environmental substance or disease that causes abnormal development of the fe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icture 2"/>
          <p:cNvPicPr/>
          <p:nvPr/>
        </p:nvPicPr>
        <p:blipFill>
          <a:blip r:embed="rId1"/>
          <a:stretch/>
        </p:blipFill>
        <p:spPr>
          <a:xfrm>
            <a:off x="2666880" y="1143000"/>
            <a:ext cx="4008600" cy="4815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Picture 1"/>
          <p:cNvPicPr/>
          <p:nvPr/>
        </p:nvPicPr>
        <p:blipFill>
          <a:blip r:embed="rId1"/>
          <a:stretch/>
        </p:blipFill>
        <p:spPr>
          <a:xfrm>
            <a:off x="2092320" y="2160720"/>
            <a:ext cx="495792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Picture 1"/>
          <p:cNvPicPr/>
          <p:nvPr/>
        </p:nvPicPr>
        <p:blipFill>
          <a:blip r:embed="rId1"/>
          <a:stretch/>
        </p:blipFill>
        <p:spPr>
          <a:xfrm>
            <a:off x="1600200" y="2286000"/>
            <a:ext cx="60879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comm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direct cau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low birth weigh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poor nutri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brain is the largest among land mammals relative to body siz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uman zygot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cel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is formed by the un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the sperm and ovu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brain is not fully mature until early adulth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entral Nervous Syste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the brain, spinal cord, and nerve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lmost every aspect of human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ft Side of the Bra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2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2" name="Picture 4" descr="mee32357_0207"/>
          <p:cNvPicPr/>
          <p:nvPr/>
        </p:nvPicPr>
        <p:blipFill>
          <a:blip r:embed="rId1"/>
          <a:stretch/>
        </p:blipFill>
        <p:spPr>
          <a:xfrm>
            <a:off x="2392200" y="1471680"/>
            <a:ext cx="51516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Picture 2"/>
          <p:cNvPicPr/>
          <p:nvPr/>
        </p:nvPicPr>
        <p:blipFill>
          <a:blip r:embed="rId1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icture 2"/>
          <p:cNvPicPr/>
          <p:nvPr/>
        </p:nvPicPr>
        <p:blipFill>
          <a:blip r:embed="rId2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 2"/>
          <p:cNvPicPr/>
          <p:nvPr/>
        </p:nvPicPr>
        <p:blipFill>
          <a:blip r:embed="rId3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icture 3"/>
          <p:cNvPicPr/>
          <p:nvPr/>
        </p:nvPicPr>
        <p:blipFill>
          <a:blip r:embed="rId4"/>
          <a:stretch/>
        </p:blipFill>
        <p:spPr>
          <a:xfrm>
            <a:off x="1600200" y="1905120"/>
            <a:ext cx="6324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Picture 1"/>
          <p:cNvPicPr/>
          <p:nvPr/>
        </p:nvPicPr>
        <p:blipFill>
          <a:blip r:embed="rId1"/>
          <a:stretch/>
        </p:blipFill>
        <p:spPr>
          <a:xfrm>
            <a:off x="2895480" y="2133720"/>
            <a:ext cx="462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lf of the neurons produced during prenatal development die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yelin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whereby the neurons and dendrites become coated with a fatty substance called mye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neural impulses to travel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dea tha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a “critical period”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brain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n issue of debat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Picture 2"/>
          <p:cNvPicPr/>
          <p:nvPr/>
        </p:nvPicPr>
        <p:blipFill>
          <a:blip r:embed="rId1"/>
          <a:stretch/>
        </p:blipFill>
        <p:spPr>
          <a:xfrm>
            <a:off x="2406600" y="1168560"/>
            <a:ext cx="4356000" cy="4546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ough often thought tru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no stro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ientific evid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categorize individual differences in learning styles according to left- and right-brain hemispheric specialization.</a:t>
            </a:r>
            <a:br>
              <a:rPr sz="4400"/>
            </a:br>
            <a:br>
              <a:rPr sz="44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Hiscock &amp; Kinbourne, 1987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zygote contains one set of 23 chromosomes from the mother and another set of 23 chromosomes from the father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h cerebral hemispheres influence more aspects of cognitive functioning than was previously though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erceptual develop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volves the processing of sensory informa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the brai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abitu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decrease in an infant’s response to a stimulus after repeated exposure to i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tuses can react to soun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bies prefer sweet fluids to other tastes, and they dislike sour and bitter tast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ense of smel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present at birt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wborn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responsive to touc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ttach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process by which infants form strong, affectional ties with their caregive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Intermodal percep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ans that events or objec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n be simultaneously perceived by multiple sen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do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nowledge of children’s perceptual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important implication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educator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lygenetic Trai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characteristics that result from the interplay of multiple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rning Disabili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due to a lack of motivation or effort on the child’s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poor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a lack of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any temporary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ossible Causes for Learning Disabiliti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uring pregnancy and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nts after 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specific learning disabilities exhibit a wide range of academic learning problem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icture 1"/>
          <p:cNvPicPr/>
          <p:nvPr/>
        </p:nvPicPr>
        <p:blipFill>
          <a:blip r:embed="rId1"/>
          <a:stretch/>
        </p:blipFill>
        <p:spPr>
          <a:xfrm>
            <a:off x="1908000" y="939960"/>
            <a:ext cx="5326200" cy="4976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ure 1"/>
          <p:cNvPicPr/>
          <p:nvPr/>
        </p:nvPicPr>
        <p:blipFill>
          <a:blip r:embed="rId1"/>
          <a:stretch/>
        </p:blipFill>
        <p:spPr>
          <a:xfrm>
            <a:off x="1967040" y="1150920"/>
            <a:ext cx="5208480" cy="455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Signs of Learning Disabilities, continue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ttention Deficit Hyperactivity Disorder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ADHD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2743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ly diagnosed behavior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developmentally inappropriate levels of activity, concentration, distractibility and impuls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requent in boys than in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Picture 1"/>
          <p:cNvPicPr/>
          <p:nvPr/>
        </p:nvPicPr>
        <p:blipFill>
          <a:blip r:embed="rId1"/>
          <a:stretch/>
        </p:blipFill>
        <p:spPr>
          <a:xfrm>
            <a:off x="2581200" y="1563840"/>
            <a:ext cx="3981600" cy="37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icture 1"/>
          <p:cNvPicPr/>
          <p:nvPr/>
        </p:nvPicPr>
        <p:blipFill>
          <a:blip r:embed="rId1"/>
          <a:stretch/>
        </p:blipFill>
        <p:spPr>
          <a:xfrm>
            <a:off x="2774880" y="1219320"/>
            <a:ext cx="2833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 2"/>
          <p:cNvPicPr/>
          <p:nvPr/>
        </p:nvPicPr>
        <p:blipFill>
          <a:blip r:embed="rId1"/>
          <a:stretch/>
        </p:blipFill>
        <p:spPr>
          <a:xfrm>
            <a:off x="770040" y="1932120"/>
            <a:ext cx="7603920" cy="2993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icture 3"/>
          <p:cNvPicPr/>
          <p:nvPr/>
        </p:nvPicPr>
        <p:blipFill>
          <a:blip r:embed="rId1"/>
          <a:stretch/>
        </p:blipFill>
        <p:spPr>
          <a:xfrm>
            <a:off x="1935000" y="1595520"/>
            <a:ext cx="5272200" cy="366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trait not express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flec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gen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hysical disabiliti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sult from damage to the central nervous syste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low vision cannot read newsprint-size letters, even with corrective len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ho ar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lin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either 20/200 vis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r a limited field of vis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umatic Brain Inju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quired injury to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open or closed 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ignificant impact o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deaf-blindness have dual sensory impairmen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egree of integra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 the general classroom depends on a child’s leve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ognitive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communication abili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ut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1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urological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s the functioning of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mon in boys than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 1"/>
          <p:cNvPicPr/>
          <p:nvPr/>
        </p:nvPicPr>
        <p:blipFill>
          <a:blip r:embed="rId1"/>
          <a:stretch/>
        </p:blipFill>
        <p:spPr>
          <a:xfrm>
            <a:off x="2133720" y="1676520"/>
            <a:ext cx="5208480" cy="455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8" name="Picture 7" descr="Picture 1"/>
          <p:cNvPicPr/>
          <p:nvPr/>
        </p:nvPicPr>
        <p:blipFill>
          <a:blip r:embed="rId2"/>
          <a:stretch/>
        </p:blipFill>
        <p:spPr>
          <a:xfrm>
            <a:off x="2133720" y="685800"/>
            <a:ext cx="510516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icture 4"/>
          <p:cNvPicPr/>
          <p:nvPr/>
        </p:nvPicPr>
        <p:blipFill>
          <a:blip r:embed="rId1"/>
          <a:stretch/>
        </p:blipFill>
        <p:spPr>
          <a:xfrm>
            <a:off x="1981080" y="2209680"/>
            <a:ext cx="5164200" cy="363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0" name="Picture 5" descr="Picture 1"/>
          <p:cNvPicPr/>
          <p:nvPr/>
        </p:nvPicPr>
        <p:blipFill>
          <a:blip r:embed="rId2"/>
          <a:stretch/>
        </p:blipFill>
        <p:spPr>
          <a:xfrm>
            <a:off x="1981080" y="990720"/>
            <a:ext cx="5105520" cy="104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age 5 or 6, most children: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py simple geometric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nipulate buttons and zi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ble to tie their own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int the alphabet, letter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name, and numbers 1 -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write large and not well organized o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DNA Molecule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2.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7" name="Picture 6" descr="mee32357_0202"/>
          <p:cNvPicPr/>
          <p:nvPr/>
        </p:nvPicPr>
        <p:blipFill>
          <a:blip r:embed="rId1"/>
          <a:stretch/>
        </p:blipFill>
        <p:spPr>
          <a:xfrm>
            <a:off x="3630600" y="1447920"/>
            <a:ext cx="1881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nd to walk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rlier than boy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the early childhood years, boys outperform girls on most gross motor tas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or adolescents with poor motor skills may avoid physical activities and become sedenta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hood obes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s been on the ris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motor skills develop and children begin to spend more time away from the careful supervision of parents, the incidence of accidental injuries ri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o may children are pushed into competitive sports before their motor skills have significantly matur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infa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ighs approximatel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7.5 pounds at birt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ing the first year, an infant’s weight will tripl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phalocaudal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starts at the head and proceeds down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ant’s brain, neck, and trunk develop before the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ximal-distal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begins in the center and proceeds out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s develop before the arms or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les have an X and a Y chromosom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males have two X chromosom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growth slows down during the preschool and elementary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America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growing taller toda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redity plays an important role in determin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child’s shape and siz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utrition is a core ele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well-being throughout lif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leep is a vital component of health and well-being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refers to the period in which a young person becomes capable of sexual reproduc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icture 5"/>
          <p:cNvPicPr/>
          <p:nvPr/>
        </p:nvPicPr>
        <p:blipFill>
          <a:blip r:embed="rId1"/>
          <a:stretch/>
        </p:blipFill>
        <p:spPr>
          <a:xfrm>
            <a:off x="2949480" y="1160640"/>
            <a:ext cx="3245040" cy="45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icture 6"/>
          <p:cNvPicPr/>
          <p:nvPr/>
        </p:nvPicPr>
        <p:blipFill>
          <a:blip r:embed="rId1"/>
          <a:stretch/>
        </p:blipFill>
        <p:spPr>
          <a:xfrm>
            <a:off x="1347840" y="1994040"/>
            <a:ext cx="6446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thnic differences in the onset of puberty are not well underst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icture 7"/>
          <p:cNvPicPr/>
          <p:nvPr/>
        </p:nvPicPr>
        <p:blipFill>
          <a:blip r:embed="rId1"/>
          <a:stretch/>
        </p:blipFill>
        <p:spPr>
          <a:xfrm>
            <a:off x="1312920" y="2249640"/>
            <a:ext cx="651816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roximately 160 males are conceived for every 100 femal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 dramatic perio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hysical development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only to infanc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ten leads to chang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dolescents’ self-imag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confidenc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mily relation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od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s with the opposite sex, and many other behavio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considerab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ividual variabil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onset of puber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rly physical maturity in 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n have som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sitive consequenc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it also poses some ris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ung people today face a number of risks and challenges, including drug use, early sexual experimentation, and AID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7631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8b4"/>
                </a:solidFill>
                <a:latin typeface="Arial"/>
              </a:rPr>
              <a:t>FIGURE 2.13 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Concerns of Children and Adolescents Today     Source: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Child Welfare League of America, 2005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9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In 2001, almost half of the total number of enrollees in Medicaid were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children under age 19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2, 425,493 babies were born to girls ages 15 to19, a birthrate of 43 per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1,000 girls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2, an estimated 2,209,000 children ages 12–17 were dependent on or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abusing illicit drugs or alcohol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Co-occurring mental health and substance abuse disorders are increasingly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prevalent in youth; of youth treated for substance abuse disorders,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80–85% also have a mental health disorder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3, 1,687,814 children under age 18 were arrested; of these arrests,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25,531 were for violent crimes and 11,501 were for possession of a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weapon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A 2001 census showed that 104,413 children are housed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juvenile correction facilities in the United States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1, 1,890 children under age 20 committed suicide in the United States,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a rate of 2.6 per 100,000 child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ercentage of young people who are overweight has more than doubled in the last 30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icture 8"/>
          <p:cNvPicPr/>
          <p:nvPr/>
        </p:nvPicPr>
        <p:blipFill>
          <a:blip r:embed="rId1"/>
          <a:stretch/>
        </p:blipFill>
        <p:spPr>
          <a:xfrm>
            <a:off x="1630440" y="2232000"/>
            <a:ext cx="5881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hood obesity has increased rapidly in the last 30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eating disorder </a:t>
            </a:r>
            <a:br>
              <a:rPr sz="4400"/>
            </a:b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norexia nervos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inly affect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olescent 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tween the ag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14 and 18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4:07:13Z</dcterms:created>
  <dc:creator>McGraw-Hill Higher Education</dc:creator>
  <dc:description/>
  <dc:language>en-US</dc:language>
  <cp:lastModifiedBy>laurie.donovan</cp:lastModifiedBy>
  <dcterms:modified xsi:type="dcterms:W3CDTF">2010-10-08T03:11:49Z</dcterms:modified>
  <cp:revision>123</cp:revision>
  <dc:subject/>
  <dc:title>Chapter 2</dc:title>
</cp:coreProperties>
</file>